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6BFB07-A600-4B7E-A150-6D3C6B181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104B7D-856A-4EDE-A9C0-8A2E036D40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667F3D-EABC-4F52-B844-54B4C10286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499ECB-A830-4A7C-A8E4-F91AB4107B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982F-AFC7-4E46-BC8C-832C577F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D216-0758-4134-9BDA-7428C82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47B0-7389-4823-90B3-4C1CC037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5B37-C1BD-4D22-A2F8-2634EBD8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48F4-7884-4AE9-BC77-8145B66B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D8A0-3F99-4DD8-B21D-3057E74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56A-B5B8-4B03-96E5-50B42F3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263-651F-41BB-9D25-C29930E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319-E187-4B88-9418-04E3AE75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056-DEC2-4C69-A584-73882043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0289-A9AE-4BFB-8DF0-44EF6D3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64EB-5665-44E9-96C7-B49372F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D13-446F-418C-A124-D7284D6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615-1DF2-4A85-A5B4-9F15BB3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B5C1-9CE3-485D-8AC7-BA0F855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225-E1C5-4AE4-9644-DCC06FCB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06C9-96F6-4B69-A7BF-E82CAC4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A138-17FC-4043-AB53-6A108361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947C-BD2B-40E2-9945-6593201A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EC99-795C-48B8-8FDF-CA58AF4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0DF9-718F-4A4D-A502-035F204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4FBE-6DD3-4328-B585-13EA1D2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1EF4-A9A8-4D29-93C3-0FAB65F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6A8-34DC-4935-9B19-D9CCDAA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E72F-AC05-4443-A0FE-67440AFB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1331-1DC6-423D-93B5-9516DF80A1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17040" cy="23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Heavy"/>
              </a:rPr>
              <a:t>Anatomy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Franklin Gothic Heavy"/>
              </a:rPr>
              <a:t>of an essay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5435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Emanuel Hughley J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or of English and Jour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yahoga Community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n Ca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and Hills, 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sis stat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91920" y="1878120"/>
            <a:ext cx="79945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esis statement does not state a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 does a thesis statement announce the writer’s intention or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dition, a thesis statement does not ask a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entative the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4520"/>
            <a:ext cx="82296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evelop an effective thesis statement answer this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is my po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can’t answer this question, you don’t know enough about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entative the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6400" y="2061720"/>
            <a:ext cx="8150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you have learned what you need to know about your topic, tell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your poin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y point is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. . to ease the problems of commuting , federal highway funds and state taxes and gasoline taxes should be used to create bicycle lanes on city streets and wide shoulders of secondary roa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entative the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sure you write a thesis statement rather than a purpos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hesis statement focuses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urpose statement focuses on your essay and tells what you want to accompl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ips for stating a the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your thesis exac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ncise, detailed and down-to-earth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Registering for classes is frustra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on central issue in your 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r paper is to focus on one point, your thesis should state only one main i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your thesis posit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ually find evidence to support a positive statement, but you cannot prove a negative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 your thesis to a statement that is possible to demons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hesis should stake out enough territory for your to cover thoroughly within the assigned word length and the time available, and no 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 Bod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s reasons to support writer’s th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in way that makes sense and is easy for reader to fol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ks to persuade the reader to agree with the writer’s opinion about the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organization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h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Organization strateg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on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s details in sequence of occur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 Black"/>
              </a:rPr>
              <a:t>Emphatic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ves the best for l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ks supporting points in order of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s weakest point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s up to strongest point l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 Black"/>
              </a:rPr>
              <a:t>Spatial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when describing a sc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to bot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to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 t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to the 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7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 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s essay to a satisfying fin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ways to close your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with a quo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or restate your 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with a brief emphatic sta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 when the story is finished.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not write: “In conclusion, I would like to say. . 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What is an essay?</a:t>
            </a: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ssay is a group of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agraphs develop a central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aragraphs are linked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y the paragraphs are linked makes sense to the rea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y the paragraphs are linked is easy for reader to fol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601640" y="382680"/>
            <a:ext cx="7274160" cy="15969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  <a:effectLst>
            <a:outerShdw dist="119669" dir="3481869" blurRad="0" rotWithShape="0">
              <a:srgbClr val="5b5b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6"/>
          <p:cNvGrpSpPr/>
          <p:nvPr/>
        </p:nvGrpSpPr>
        <p:grpSpPr>
          <a:xfrm>
            <a:off x="1563840" y="2440080"/>
            <a:ext cx="7350120" cy="2511360"/>
            <a:chOff x="1563840" y="2440080"/>
            <a:chExt cx="7350120" cy="2511360"/>
          </a:xfrm>
        </p:grpSpPr>
        <p:sp>
          <p:nvSpPr>
            <p:cNvPr id="564" name="Rectangle 7"/>
            <p:cNvSpPr/>
            <p:nvPr/>
          </p:nvSpPr>
          <p:spPr>
            <a:xfrm>
              <a:off x="1563840" y="2440080"/>
              <a:ext cx="7350120" cy="758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141999" dir="3809994" blurRad="0" rotWithShape="0">
                <a:srgbClr val="5b5b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8"/>
            <p:cNvSpPr/>
            <p:nvPr/>
          </p:nvSpPr>
          <p:spPr>
            <a:xfrm>
              <a:off x="1563840" y="3316320"/>
              <a:ext cx="7350120" cy="758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141999" dir="3809994" blurRad="0" rotWithShape="0">
                <a:srgbClr val="5b5b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9"/>
            <p:cNvSpPr/>
            <p:nvPr/>
          </p:nvSpPr>
          <p:spPr>
            <a:xfrm>
              <a:off x="1563840" y="4192560"/>
              <a:ext cx="7350120" cy="758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141999" dir="3809994" blurRad="0" rotWithShape="0">
                <a:srgbClr val="5b5b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Rectangle 10"/>
          <p:cNvSpPr/>
          <p:nvPr/>
        </p:nvSpPr>
        <p:spPr>
          <a:xfrm>
            <a:off x="1525680" y="5335560"/>
            <a:ext cx="7426080" cy="11397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  <a:effectLst>
            <a:outerShdw dist="127008" dir="3183908" blurRad="0" rotWithShape="0">
              <a:srgbClr val="5b5b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1"/>
          <p:cNvGrpSpPr/>
          <p:nvPr/>
        </p:nvGrpSpPr>
        <p:grpSpPr>
          <a:xfrm>
            <a:off x="668160" y="2736720"/>
            <a:ext cx="695520" cy="1765440"/>
            <a:chOff x="668160" y="2736720"/>
            <a:chExt cx="695520" cy="1765440"/>
          </a:xfrm>
        </p:grpSpPr>
        <p:sp>
          <p:nvSpPr>
            <p:cNvPr id="569" name="Rectangle 12"/>
            <p:cNvSpPr/>
            <p:nvPr/>
          </p:nvSpPr>
          <p:spPr>
            <a:xfrm>
              <a:off x="668160" y="2736720"/>
              <a:ext cx="695520" cy="1765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13"/>
            <p:cNvSpPr/>
            <p:nvPr/>
          </p:nvSpPr>
          <p:spPr>
            <a:xfrm rot="16200000">
              <a:off x="188640" y="3422520"/>
              <a:ext cx="1557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Group 14"/>
          <p:cNvGrpSpPr/>
          <p:nvPr/>
        </p:nvGrpSpPr>
        <p:grpSpPr>
          <a:xfrm>
            <a:off x="687240" y="306360"/>
            <a:ext cx="695520" cy="1749600"/>
            <a:chOff x="687240" y="306360"/>
            <a:chExt cx="695520" cy="1749600"/>
          </a:xfrm>
        </p:grpSpPr>
        <p:sp>
          <p:nvSpPr>
            <p:cNvPr id="572" name="Rectangle 15"/>
            <p:cNvSpPr/>
            <p:nvPr/>
          </p:nvSpPr>
          <p:spPr>
            <a:xfrm>
              <a:off x="687240" y="306360"/>
              <a:ext cx="695520" cy="1749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16"/>
            <p:cNvSpPr/>
            <p:nvPr/>
          </p:nvSpPr>
          <p:spPr>
            <a:xfrm rot="16200000">
              <a:off x="210240" y="979920"/>
              <a:ext cx="154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rodu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Group 17"/>
          <p:cNvGrpSpPr/>
          <p:nvPr/>
        </p:nvGrpSpPr>
        <p:grpSpPr>
          <a:xfrm>
            <a:off x="668160" y="5183280"/>
            <a:ext cx="695520" cy="1368360"/>
            <a:chOff x="668160" y="5183280"/>
            <a:chExt cx="695520" cy="1368360"/>
          </a:xfrm>
        </p:grpSpPr>
        <p:sp>
          <p:nvSpPr>
            <p:cNvPr id="575" name="Rectangle 18"/>
            <p:cNvSpPr/>
            <p:nvPr/>
          </p:nvSpPr>
          <p:spPr>
            <a:xfrm>
              <a:off x="668160" y="5183280"/>
              <a:ext cx="695520" cy="1368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19"/>
            <p:cNvSpPr/>
            <p:nvPr/>
          </p:nvSpPr>
          <p:spPr>
            <a:xfrm rot="16200000">
              <a:off x="379440" y="5695560"/>
              <a:ext cx="1211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nclu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Rectangle 20"/>
          <p:cNvSpPr/>
          <p:nvPr/>
        </p:nvSpPr>
        <p:spPr>
          <a:xfrm>
            <a:off x="1747800" y="2654280"/>
            <a:ext cx="709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st reason or supporting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1753920" y="3500280"/>
            <a:ext cx="467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reason or supporting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1753200" y="4338720"/>
            <a:ext cx="450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reason or supporting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1824120" y="5710320"/>
            <a:ext cx="686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 supporting points, or restate 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1824120" y="604800"/>
            <a:ext cx="6867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racts reader’s attention. Includes thesis statement: sentence that tells what topic of essay is and expresses writer’s opinion about top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26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2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 Black"/>
              </a:rPr>
              <a:t>Planning Essa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your purpo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goal of es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be to explain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something happ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something should/should not b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 problem can be 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your top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ure focus is not too bro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ure topic is specif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 Black"/>
              </a:rPr>
              <a:t>Planning Essa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your opinion of top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ann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ask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reasons can you give for your opin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 Parts of an Ess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 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061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-in: Stimulates interest in the es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s thesis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s topic of es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es writer’s opinion of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Ways to stimulate inter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background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little known facts or startling stati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 question that relates to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 a person or a scene related to topic of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an interesting qu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80084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Presenting the the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ually placed after lead-in or int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ways stated as a complete, declarative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states an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states a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asks a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sis stat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1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entral idea of an essay is stated in a sentence called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sis statemen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esis statement is similar to the topic sentence of a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esis statement tells the reader what is the topic of th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esis statement also tells the reader the writer’s opinion about the essay’s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sis stat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esis statement include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A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Point or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Franklin Gothic Heavy"/>
              </a:rPr>
              <a:t>Thesis stat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opi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ver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t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ing for classes    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frustr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ing colle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four important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lack of sle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   significant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04:27:16Z</dcterms:created>
  <dc:creator>Cadet Philip Hughley</dc:creator>
  <dc:description/>
  <dc:language>en-US</dc:language>
  <cp:lastModifiedBy>ehughle</cp:lastModifiedBy>
  <cp:lastPrinted>1999-02-23T15:13:10Z</cp:lastPrinted>
  <dcterms:modified xsi:type="dcterms:W3CDTF">2008-09-17T18:11:34Z</dcterms:modified>
  <cp:revision>73</cp:revision>
  <dc:subject/>
  <dc:title>Anatomy of an essay</dc:title>
</cp:coreProperties>
</file>